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4D6BD2-C0EF-4BE7-9C83-7558A6E6F05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210-482A-4A5F-9CE7-248C1547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395680"/>
            <a:ext cx="616896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7C4-1B85-4D47-B08E-E3B0FAAC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39568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240" y="539568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118-E777-4226-8AEA-7436BF3F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8920" y="213372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4760" y="213372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39568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8920" y="539568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4760" y="539568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DCD-41A4-4D92-9E18-2BE08145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131-9854-4D2B-80FA-B40E24C0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36F-C34D-4421-A6C6-AD5CC1CB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90A-4152-4794-9B7B-5B2DB14D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2C7-5516-436C-8805-55868264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75960"/>
            <a:ext cx="6168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2C2-0449-43D2-BBF3-72912334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39568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144-0509-41BD-AA69-74DDE5A7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240" y="539568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883-2890-4BF0-B33E-66080A76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395680"/>
            <a:ext cx="616896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C27D-00CF-4B8D-8545-2BD7311C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69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2880" y="8326080"/>
            <a:ext cx="21682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69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FFC98-837B-47F3-94B4-45604744CF15}" type="slidenum">
              <a: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20640" y="7737480"/>
            <a:ext cx="58294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Scuola Primaria Pecorini (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Classe I B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70000" y="2638440"/>
            <a:ext cx="5670360" cy="2881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0"/>
                <a:gd name="adj2" fmla="val -420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 le mani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ll'acqu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252360"/>
            <a:ext cx="58294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Progetto Acqu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Dis09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324480" cy="85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is10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6400800" cy="807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Diap01" descr=""/>
          <p:cNvPicPr/>
          <p:nvPr/>
        </p:nvPicPr>
        <p:blipFill>
          <a:blip r:embed="rId1"/>
          <a:stretch/>
        </p:blipFill>
        <p:spPr>
          <a:xfrm>
            <a:off x="-533520" y="1676520"/>
            <a:ext cx="789948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Diap02" descr=""/>
          <p:cNvPicPr/>
          <p:nvPr/>
        </p:nvPicPr>
        <p:blipFill>
          <a:blip r:embed="rId1"/>
          <a:stretch/>
        </p:blipFill>
        <p:spPr>
          <a:xfrm>
            <a:off x="6480" y="1440"/>
            <a:ext cx="6851520" cy="9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Diap03" descr=""/>
          <p:cNvPicPr/>
          <p:nvPr/>
        </p:nvPicPr>
        <p:blipFill>
          <a:blip r:embed="rId1"/>
          <a:stretch/>
        </p:blipFill>
        <p:spPr>
          <a:xfrm>
            <a:off x="0" y="0"/>
            <a:ext cx="6905520" cy="9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Diap04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789948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Diap05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Diap06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78994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-360"/>
            <a:ext cx="6168960" cy="83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Diap07" descr=""/>
          <p:cNvPicPr/>
          <p:nvPr/>
        </p:nvPicPr>
        <p:blipFill>
          <a:blip r:embed="rId1"/>
          <a:stretch/>
        </p:blipFill>
        <p:spPr>
          <a:xfrm>
            <a:off x="-457200" y="1600200"/>
            <a:ext cx="78994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Diap08" descr=""/>
          <p:cNvPicPr/>
          <p:nvPr/>
        </p:nvPicPr>
        <p:blipFill>
          <a:blip r:embed="rId1"/>
          <a:stretch/>
        </p:blipFill>
        <p:spPr>
          <a:xfrm>
            <a:off x="-457200" y="1600200"/>
            <a:ext cx="789948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836440"/>
            <a:ext cx="58291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8520" y="52700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Dis0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00800" cy="86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Diap09" descr=""/>
          <p:cNvPicPr/>
          <p:nvPr/>
        </p:nvPicPr>
        <p:blipFill>
          <a:blip r:embed="rId1"/>
          <a:stretch/>
        </p:blipFill>
        <p:spPr>
          <a:xfrm>
            <a:off x="-533520" y="685800"/>
            <a:ext cx="7899480" cy="77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Diap10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789948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Diap11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789948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is02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548640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is0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096240" cy="83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is0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609588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is05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6248160" cy="83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s0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00800" cy="86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Dis07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400800" cy="861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s08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5:21:10Z</dcterms:created>
  <dc:creator>Direzione Didattica</dc:creator>
  <dc:description/>
  <dc:language>en-US</dc:language>
  <cp:lastModifiedBy>Himself</cp:lastModifiedBy>
  <dcterms:modified xsi:type="dcterms:W3CDTF">2010-07-17T07:54:51Z</dcterms:modified>
  <cp:revision>13</cp:revision>
  <dc:subject/>
  <dc:title>Diapositiva 1</dc:title>
</cp:coreProperties>
</file>